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933-A4D4-4D2D-87FB-C75F8F2D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F9B-0DAD-4BA2-94F2-DF9DE517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436-E737-4DC6-8B7C-84BB5710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F51-EFAE-4DCB-97B5-1C801BD7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57A9-6A19-40C0-BCBB-8191A02E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46C9-A42F-47A1-B3A2-A7242131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592E-4F04-40EF-AF81-B7D987F1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E19F-7F6C-479D-8F1E-92A94E1E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1EF8-CC7A-417D-98CE-18494DC6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F88D-8EE1-4A12-8968-A899321C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26C3-772D-413D-A2E8-2F9A3487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B9B-8A1B-4A3F-AA23-6AFBB1E3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BCB2-67D9-4ECF-B958-57C6061F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6F08-A13F-42EE-BAAE-599BDC0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FF77-9A29-4B33-ACBE-6B51E8AF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8013-1797-4CF7-864D-0CA6287A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EB5D-71B6-4EAC-AF4E-3D469521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5F3-4940-46A9-A6FD-43FE66DA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9BF-C15C-462B-8832-ACD36838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075-5D91-49A9-A728-4C571150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D5E-D6D3-42C2-9A9E-5D36A28E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3A8-4D3B-4C7F-93F0-01A2D69D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C4B-20CE-41F1-8804-0E3C87CB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CB9-2EC8-4805-BA5F-2015EF19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27D0-06DC-4E92-8EEF-651C5782C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1BF5-7DF8-45F1-B2E5-ECA44464374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Chapter 30</a:t>
            </a: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52520" y="32000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Revolution, Reunification, and Rebuilding, 1985 to the Present</a:t>
            </a: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 Gorbachev's Reforms in the Soviet Unio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 new era of fundamental change began under Gorbachev in 198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By 1982, economic decline was worsened by mass apathy and lack of personal initi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ndropov tried to reinvigorate the old system but with no su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53352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Gorbachev set forth a series of reforms to restructure the economy (perestroika), centering on a freer market economy, but the economy stalled midway between central planning and free-market mech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He inistituted glasnost, or openness in society and politics, leading to much more freedom of spee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Democratization of the Soviet state was begun; free election were held in 1989 for the first time since 1917; meetings of Congress were televi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2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emocratization encouraged demands for autonomy by non-Russian mino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Gorbachev withdrew troops from Afghanistan and encouraged reform in eastern Europe, repudiating the Brezhnev Doctr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The Revolution of 1989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 Gorbachev's plan to reform communism snowballed out of control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 series of anti-Communist revolts spread across eastern Eur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Gorbachev's reform plans in the Soviet Union backfired as anti-Communist revolts took 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The Collapse of Communism in Eastern Europ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orbachev's plan reform communism snowballed out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In Poland, Solidarity was again legalized and won overwhelming in free e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Gorbachev refused to send Soviet troops to keep Polish communists in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any radical political and economic reforms instit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n Hungary, popular resistance and communist liberation ended one-party rule and brought free elections in 199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 multiparty democracy was esta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Borders between Hungary and East Germany wer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Growing economic dislocation brought revolution in East Ger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Berlin Wall was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ommunist leaders were swept out of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The people of Czechoslovakia ousted the communist bosses in 198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Only in Romania was the revolution violent and blo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Ceausescu was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Romania's political prospects remained uncer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The Disintegration of the USSR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n 1990, the moderate Gorbachev was in between hard-line communists and revolutionary democrats and anti-Commun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Groups (i.e., in Lithuania and the Caucasus) still with in the Soviet Union were challenging Soviet ( Great Russian)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 February 1990, the democrats and anti-Communists won local elections; Gorbachev's new constitution abolished the party's monopoly of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Gorbachev was elected president of the Soviet Un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240" y="45684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radical Boris Yeltsin was elected leader of parliament while Gorbachev tired to keep the Soviet Union int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In an attempt coup, hard-liners kidnapped Gorbachev; Yeltsin saved the government and brought about more re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By declaring Russia independent from the Soviet Union, Yeltsin caused the dismemberment of the Soviet Emp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Gorbachev's job ceased to ex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Russia now concentrated on building a strong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I. Decline of Communism in Eastern Europ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The Soviet Union had shifted back and forth between a desire to reform itself and aggressive dictatorship-then Gorbachev opened a new era of re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German unification and the end of the cold w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death of communism in East Germany reopened the question of German un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East German reform communists had feared unification and looked for a 'third way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is idea failed because half the population fled and because West German Kohl offered a generous economic plan to bankrupt East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key to unification was Gorbachev's approval (1990) in exchange for aid; Germany was officially unified in 19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94920" y="457200"/>
            <a:ext cx="7696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Paris Accord of 1990 brought twenty-two European countries to agree to arms reductions and to affirm existing bor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Americans and he Soviets followed with a significant reduction in nuclear weap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With Russia in decline, only the United States was left as a world super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240" y="45684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United States used its new power to turn back an Iraqi invasion of Kuwait in 199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France, Britain, and the UN supported this massive operation, which smashed Iraqi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 new era began with the United States and the United Nations working together to impose peace and stability throughout the wor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Building a New Europe in the 1990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Common patterns and problems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European states accepted neo-liberal, free-market capita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Former communist states such as Poland and Hungary turned state industries over to private owners; western states scaled down welfare bene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 doing this, they were following the successful American economy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240" y="38052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 new global economy encouraged these tr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Europeans joined in the new global economy that stressed open mar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e computer-electronic revolution encouraged the global economy-and leveled the playing field between big and small compa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ome workers and unions saw the global economic trends as a threat to wages, job security, and health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Protesters charged that global neoliberalism hurt the world's p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Liberal democracy united Europe in a common political-cultural ide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71240" y="38052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Liberal democracy triumphed throughout most of Europe but was accompanied by a return of nationa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But the national and ethnic hatreds of Yugoslavia's civil war did not spread widely elsew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ost nations wished to become members in the European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Recasting Russi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eltsin and Russia opted for breakneck economic liberalization in 199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Industries were sold to the workers; but prices and inflation soared for five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New firms did not emerged to replace the old state monopolies-as the old mangers joined up with criminals to block true re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A new capitalist elite became rich while many fell into pove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Huge profits were made by some in oil; wealth became over concentrated in Mosc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Life expectancy fell, and only in 1997 did living conditions begin to impr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The Soviet Union to 1985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oviet occupation of Czechoslovakia in August 1968 was the most important event in the Brezhnev 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-Stalinization followed, but with a collective not a personal dictator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Living standards improved until the 1970s, when economic decline set in; the gap between the elite and the ordinary person gr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Nationalism held the country together in a common belief; the dominant Great Russians feared that minorities within Russia might desire autono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71240" y="533520"/>
            <a:ext cx="7620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Yeltsin was more successful in poli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In 1993, he won in a struggle between those who wanted a strong presidency and those who wanted a strong parlia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But Russia does not yet have a tradition of strong political parties and rule by law and an effective court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240" y="6858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ilitary spending declined, and Russia did not protest that Poland, Hungary, and the Czech Republic joined N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Russia's intervention into Chechnya was an exception to her moderation in foreign af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Popular dissatisfaction within Russia led to Yeltsin's withdrawal from Chechny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Progress and tragedy in east central Europe (Poland, the Czech Republic, and from Hungary)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ree major trends occ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socialist-state planning economies were replaced with market capit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Western-style electoral politics took 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ocial/economic inequality increased-as the young and the ex-communists became a new elite, and gangsterism incr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In addition, nationalism was rebo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71240" y="45684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economic results were impressive: Poland, the Czech Republic, and Hungary all made great g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s well, each made impressive gains in crating new civic institutions, such as legal systems and the presid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three nations were accepted into NATO and the E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lovakia, Romania, and Bulgaria had a more difficult time in economic and political transition from communism to Western tra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2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The tragic pot-communist experience was in the old Yugosla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Yugoslavia was broken up at the fall of communism in 1989-three separatist republics began to fight i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ilosevic led the Serbian Republic to grab territory, which caused Slovenia and Croatia to declare indepen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erbia retaliated with a war of aggression on Slovenia and Croatia, and then on Bosnia, which had been a part of Ser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2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Bosnia declared its independence, which led to a dirty war between Serbs, Croats, and Bosni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any became victims of murder, rape, destruction, and were herded into concentration cam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United States President Clinton used U.S. troops to impose peace, and an agreement was reached that divided Bosnia between Bosnia between Bosnian Serbs and Croatians in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In 1998 the Albanian Muslims of Kosovo fought for independence from Serbian r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Milosevic's Serbian army 780,000 Kosovars into ex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United States and NATO bombing raids led to the defeats of Milosevic and the Serbian government turned him over to the War Crimes Tribu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 Unity and Identity in Western Europ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ingle European Act of 1986 gave a powerful second wind to western European 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It set the ground rules for a single market, which was established in 1993-as the European Union (EU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e Maastricht Treaty of 1990 established the rules for a single curr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ingle currency (monetary union) is seen as a step toward political unity to c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71240" y="8377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Some Europeans opposed this monetary union-partly because of fears of a centralized bureaucracy and fears of cuts in social bene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Unpopular views of Maastricht in France led to defeat of the Socialist party-and struggles over cuts in social expenditures, like transportation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possible inclusion of eastern European states into the EU led some to question how effective a huge European state could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German unification problems (particularly for women) led to increased unemployment and the defeat of Kohl in 199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though new members (Sweden, Finland, and Austria) were brought into the EU, a host of complex issues need to be resolved before its expansion into Eastern Eur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The Great Russians feared that liberalism and democracy would cause minorities to revo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Nonconformity and protest were severely punished; Jews were persecuted, and some dissidents (such as Solzhenitsyn) were expel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V. New challenges in the twenty-first century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The prospect of population dec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Europeans fear that decline in population is a "ticking time bomb" that will hurt the social welfare system and the econo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fact of careers for women and the drive for gender equality is the decisive reason for the decline of the birth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t is not clear if Europeans will fail to reproduce themselves-as many women stop with a single child or no children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The Growth of Immigr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n the 1990s a surge of migrants from Africa, Asia, and Eastern Europe has led to a debate over the value of large-scale immig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Many of these new immigrants are political refugees escaping from conflicts in Afghanistan, Rwanda, and other problem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llegal immigrants are in search of jobs-some are young women who are forced into pro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Some Europeans, particularly rightist politicians, oppose immigrants, who are forced into pro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Others believe that Europe needs newcomers to limit population decline and provide technical sk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Europe's role in the global er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240" y="11430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European intellectuals and opinion makers began to envision a new historic mission for Europe: the promotion of peace and human rights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is rests on more global agreements and institutions to set moral standards and the regulation of society to conform to standards of "human rights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e United States, after George W. Bush was elected, reacts coolly to this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ome European states have pushed for greater rights in the area of sexually, smoking of pot, and euthana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Some have criticized unrestrained capitalist globalization and seek greater social and economic 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71240" y="4572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errorist attacks of September 11, 2001, led to further Western struggle against oppression in the non-Western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September 11 terrorists used four hijacked American planes to attack the United States-killing thousands of people from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e U.S. and its allies launched a military campaign in Afghanistan against the Taliban, Osama bin Laden and his al-Qaida terrorist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wift punishment of the terrorists brought about a new government and the liberation of Afghan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712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Nevertheless, a social revolution was in the ma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urban population grew to two-thirds of the total and became more sophisti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 class of educated and self-confident experts grew and became connected to the W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The public became more educated and pol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Solidarity in Poland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1430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Polish communists dropped efforts to impose Soviet-style collectivization on the peasants and to break the Catholic chu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Polish economy suffered greatly because of poor leadership and the world depression of the 197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240" y="10663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"Polish miracle" occurred when the economic crisis became a spiritual crisis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Pope John Paul II, former archbishop of Kracow, called attention to the rights of all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Strikes in August 1980 led to revolutionary demands, which were accepted by the government in the Gdansk Agre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Lech Walesa led the new democratic trade union movement called Solidarity.  Its demands were for industrial, political, and economic r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Solidarity had massive support and a sophisticated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It stopped short of directly challenging the communist monopoly of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240" y="53352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When Solidarity lost its cohesiveness, the Polish communist leadership under Jaruzelski smashed the movement (1981) and imposed martial la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fter 1981, Solidarity went underground and fought on with great popular sup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Polish cultural and intellectual life remained vigorous despite the r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0:13:32Z</dcterms:created>
  <dc:creator>Donovan</dc:creator>
  <dc:description/>
  <dc:language>en-US</dc:language>
  <cp:lastModifiedBy>Sue Gregory</cp:lastModifiedBy>
  <dcterms:modified xsi:type="dcterms:W3CDTF">2008-04-30T06:54:48Z</dcterms:modified>
  <cp:revision>30</cp:revision>
  <dc:subject/>
  <dc:title>Chapter 31 </dc:title>
</cp:coreProperties>
</file>